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DC52-7362-4D8A-ABD9-FCCE7B396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FDAE-B6A4-4F53-8FD4-91799C4E6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CD96-FA17-4FEB-BA41-4B25B66F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F90A-D059-4960-AE05-0420EE91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18FF-9364-4ACE-A515-52C2B128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E585-07C6-4CFF-9069-D492234C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2DEF-E6AC-42A8-B3B6-C22F3731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FE59-52DC-4BA9-9E2C-44A3A625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856E-FDF8-4D59-A02D-D959E19CC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06D1-3003-4CAE-921A-32EDA3D2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6734-F170-4805-8A1E-EB4B3FA8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880C-4F14-41EB-A31C-D8FFC966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20A93-8056-4350-BED3-7D39736F3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457200" y="-453960"/>
            <a:ext cx="1005840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8:53:02Z</dcterms:created>
  <dc:creator>Dan</dc:creator>
  <dc:description/>
  <dc:language>en-US</dc:language>
  <cp:lastModifiedBy>Chris Yeager</cp:lastModifiedBy>
  <dcterms:modified xsi:type="dcterms:W3CDTF">2004-11-18T19:54:46Z</dcterms:modified>
  <cp:revision>1</cp:revision>
  <dc:subject/>
  <dc:title>Slide 1</dc:title>
</cp:coreProperties>
</file>